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88F-0099-4572-932C-5C7C70DB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CFB-9FD4-472E-8717-021993F3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34E-370B-4C43-80D3-8A9B84C5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67F-67DB-4720-A7EC-B0B257A6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FB19-384E-4897-88D6-2F0F61FF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3C0-F862-4D63-9985-8684AFCD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096-E7CC-4DC1-AC30-C92449BD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0EB-D947-4B00-9E99-3D0A3909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EE2-A00C-448B-AAF2-397C003A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5B7-710F-4C13-BF49-8DFD50E7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928-2F18-4FAA-8C53-C59D6A36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942-C186-46F0-ADDF-BE89FA40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6EA8-7D60-45DB-BEC5-DBF44A6DF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Dean Zampelli</cp:lastModifiedBy>
  <dcterms:modified xsi:type="dcterms:W3CDTF">2009-03-15T21:36:30Z</dcterms:modified>
  <cp:revision>7</cp:revision>
  <dc:subject/>
  <dc:title>Wheel of Fortune</dc:title>
</cp:coreProperties>
</file>